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008-0175-4995-8418-DC78E325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841-86DE-4859-BEBA-D1382D7D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30C56-8924-4944-BD9C-AB7404D2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9BFFF-ACE2-4D05-AD9A-CE963175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B9C78-0EED-4F01-94AF-C67CD1B2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6BF08-6B28-4251-8839-A7E97664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1974B-1AED-4568-83CC-FF6ED707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32FFA-58B2-452C-BAB5-36D5DE67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96F55-69D4-430D-8476-5EB252A3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594FF-1E8D-4F2A-96FB-8CA7A994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5C4B9-60B7-489D-8914-F8D71032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77C6E-1F9C-4953-A50F-2ABE5E71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341-1205-40F7-8BD0-BD23E2C7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00F01-0053-4F6F-977B-DA242E03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8AC11-2AC7-46FA-9F07-FADC14BA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0D014-3E3F-4AA8-9128-7E9288AB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2E845-AAFA-466F-B699-9DF48938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B1777-F380-4CA7-B263-EFDD9FA4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C0D4B-1BFA-4B43-9BBC-BFC82D3E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869FA-9640-40EF-B91E-E7BBA120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C6633-6AD5-4163-823D-4FC43306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900C7-F2CD-4023-81B8-CCA6D57A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D47CC-963A-4248-AB73-33A208F3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EEBD-3FAC-4062-9019-4C36EE15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CD0B7-705C-4888-A251-DCBAC61A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AA49A-D00B-4709-9E17-3F775240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2D7AA-0672-4104-8D62-428840FC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B5AAE-703B-4EFA-A5AB-5B40A8F3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51545-5CE5-4D68-AE0A-698B6ACA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38657-D76E-4330-B1F2-31A1781D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E80B7-253D-47BE-AA14-6B3EE133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EBF1C-B31E-4149-939E-70D2A4A1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D4127-5EF4-4F49-B5BB-AC415BA9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C3A3A-92F2-45BF-B5A9-65F79A35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EC20-4FF7-45B5-BC56-B7E97B95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925BC-2E7D-4DFC-A92D-B5DB6708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3370E-7C40-4942-A2C8-758E3EDA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7D268-BB50-48DE-A520-09D88F7B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582D7-DF19-4978-9ED9-21840D7F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EF61F-5127-462D-A332-2B9FA05E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99DAF-92EA-4D51-8862-0F4610D9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63A75-716E-4F93-9385-F6ACE02E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19B15-C012-402F-8B71-6679793C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A1665-6731-48FF-9679-A2259E58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DD3DE-D352-4519-82F2-F44B9321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C062-123B-4A6D-9474-4901E2D3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B57D5-477E-40E6-86E5-1E8BCAC0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1F866-B79E-4F9A-B571-4169FC7D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3CF51-7370-4E11-B2F4-363913A4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0B852-2F83-4AE8-91B7-0929A4D1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E5B9D-F5C8-4D8A-803E-9013F778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CDCAC-7CFD-43DB-82C7-ADA60C17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136BF-2FB3-4583-8B3C-74821111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B01936-7A71-4DA7-8E5F-378B5655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3606C-DC76-494B-B63F-A48D9917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13CD1A-7E31-43E6-B5E6-3737FFCF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AB4C-6DAE-4F6E-80DF-ABEF2E1A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20EF51-1B99-4EE1-A933-9BD3B786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89D265-C62A-4540-B288-7D1BA006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80DD37-F248-4312-8D07-E7BAB43D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1AB91-D581-44A5-8957-3F86802F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E396F-9339-48F9-AB99-573DAD18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DA401-69D0-47EB-9455-34D98E5F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69D58D-1177-4CAB-BDA3-3F2778FC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585BD0-5873-4763-BD5B-0BEC0E7B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6B11E0-CEB3-4857-ADB9-CE87865F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825A4B-3CDA-484D-A47D-E9C51E90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3EE0-5EEA-45D3-A2E1-AD9BA1A7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EDE08-503F-4066-AF87-88E1C565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BAD193-77D3-4D19-A210-1819C908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4FF042-8626-48F2-A3C1-5FD3111E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A73081-35C6-4336-80F5-58DEFB94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B4EF9-8618-441A-B44E-356AC4C0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D5B3E-1BF0-4C7B-93E4-53897973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DEC347-129A-458F-ACBD-A91E4A59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583E5-6A47-49ED-8D01-D6F0F8DD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22C937-9C1E-4539-871C-C2D3E258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5DB203-BA14-44FE-9256-3C328AB5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9BB0-C790-48E1-BD75-CD71310E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C6BBC0-D847-4514-B509-41C85DA6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9913BD-111A-40AD-979B-ED87F0DA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362BAA-DCDA-4740-AAD7-A0862BDA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D0D7E3-3845-48AA-950F-8C03354C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EF7252-EF52-4A55-AB50-1C566288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C1A64B-D9E8-4849-A014-078C8E93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DD2691-0DE8-427D-9AEF-EF7DDFA1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EE6923-456C-4941-8545-27ED3BD6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26AB46-D66F-4ABB-B8DC-688DCB89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6073A0-9958-4FCF-9AB0-73CF1B4B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68A2-7E91-420B-BFC6-837BEB1A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8F9973-EC79-458D-9F05-81D9592C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161D19-4B90-498D-B95F-A5A8F72D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18A48A-A97D-44AF-8AC8-16694BDB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8EC6CC-76AA-4122-ABD0-43C38D9B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49E716-E34B-4B81-80AF-0AE851F3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5962EA-4E45-4B7B-B5B1-1FB5C0AF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08F6E3-920D-4F75-BA3C-5B415E5B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520A37-92F7-42A5-9C98-8FC358F5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10E165-64EE-4BD9-84F1-4011520E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DB75A7-B5D7-472D-8A44-B41B5208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4A04-5846-4AC9-8872-E5EF6FFD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C599C7-475A-4595-887B-818D729C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88C3FF-F5F2-43D0-A6D7-D0E79639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5A5E05-FD58-4FB5-9BA9-C09A0CE8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B1AE3B-EFC1-4BBB-BC22-41B2DAFD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23D611-8616-4868-8580-CEF31C99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F6896B-2B12-4FB0-81DB-2DEDBB5D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A3E53C-E369-44B9-B5C8-F84058F6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127BD9-E3B4-4515-9276-83734E1A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FEE2A8-1E86-4E6E-ACA3-85E459B0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7E5CE9-D564-4C26-9B16-8828D47C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6B7-8266-4E72-BAE7-0F0DE0A6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D7D9-5B7E-44F3-AC96-79EFE03A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DBC2B0-C144-4723-8303-FBC2E50F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15619C-31FC-4672-B43A-4787E609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939BCD-B65A-4C2C-9C1F-9CE4EC3F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A7D73E-EFBA-43F8-BE32-B4680219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012861-7370-4E91-B53A-42446A97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F79C-5E7B-4539-B42F-8D1DA32A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6BF7-3ED4-43C3-AD0D-83ABD7BA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F5CC-A657-404B-BAB0-50A8311E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C71F-4BA4-496A-9232-DBBCBC04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7C678-3D81-4C16-B3D8-409ACE3A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E1A7F-4964-4248-9F42-9BD03FB3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5339C-AA74-4A01-A6F2-D2BDEC69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B4B57-6976-417D-AA4C-46900D86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7604A-11A2-42E9-9DE0-50CC7119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7A6-5198-44D1-98D1-59C5ECEA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B5E2B-AB97-4988-AB34-18499FE6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1823E-52E9-4D4D-88FC-48CCDBD2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45034-C2DD-45C6-A75D-D70E7D5C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080E6-86BB-4AA5-8B70-3D9218F4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48414-6D7B-493B-986A-D6FB4FD4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56F87-0977-4736-9769-A7B5FD38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18EDA-2519-429D-BC6F-AA706065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AD8CD-8F2B-46B5-8841-5CB54271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F24E9-FF92-460F-BE70-BDEB8D09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6FD85-3E3F-4357-988F-4663BBDA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F2D-51EC-4983-8E22-B3EB3490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077C1-BD57-4066-9745-4EB8D3B9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9613F-7203-4283-9CC2-43B1FCF8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F7035-6099-47CE-9D26-0A4612F4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1F083-F4A5-476C-9158-6DC64709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E5502-3651-44DB-B09B-0DD80407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5EC28-A87F-4F48-86EF-D7764573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870E4-9526-4F3C-87F8-60E829F2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F0B84-901A-47D5-A0B7-A73F61B2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B3803-A0B7-4847-BD82-51A110D6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88EFA-2954-43FC-9102-EF245127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47D-61E9-48AC-AD72-B7A9BF0C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BDD7D-70CF-4878-AEEA-5A49B013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EC06F-1DAB-4BA0-8EEA-EB44383E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CB4D5-6830-4CDD-A1A9-18CD82C6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05FA6-F7FA-4BD9-931C-94150828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F1808-D5BD-4BDF-9E76-8A574D86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00F1C-1953-4A5C-BC9E-7CCCD3B5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6DE78-300B-4F5B-8D7E-5DA9AF3A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6E62D-E349-477D-A1B8-3F2CCA5C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B1F46-0E19-4C2C-9410-7261EF38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E0B11-CA67-4FDA-9452-694348FC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08D-2789-4C70-9B3C-EF9CAB34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1BFB9-DC39-4076-855F-5B9DF3E6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0269F-F1D3-4338-BED6-FE559A8C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B5323-8EB5-47D0-A8A1-2BABBEF4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F0D6F-0C51-4741-924E-1B9F5254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1A4A0-B1BC-4B78-BDEC-33E0CB62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D5F50-7E59-4918-9376-B26F34B7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9A2FB-5D6B-4376-A3B6-887DF50E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2B045-5B6E-434A-AD63-F8782170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C1222-C8D7-4904-A395-26476D92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2583D-A628-4ABF-A3C7-40D3731B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DD43-0266-4684-891B-67979C11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A9DD6-0C66-47F4-B870-D9C96BE3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339C1-42D3-476D-B2B1-9056EEA9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54598-2F1D-455F-8529-915FF854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40938-D514-4582-8DCD-CE9687BE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6D8F3-42F5-453F-A532-BF231F06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8D8A6-D0A8-45EE-8998-522D7368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0495D-1B3E-47F1-8051-10EF1856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12CFB-A92A-4FAB-90A1-2E17055E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9623B-023D-431F-A043-3E070BF9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24066-4AAA-4033-B050-2093EDC0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F62-A31D-447A-ACEB-2900086B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8B94E-662D-4BB3-819F-6AA25A91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A7343-3E4A-48ED-AB80-C0B3E11E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B0ABC-A21E-4520-B89C-19158611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430CF-083F-4228-85C0-8A9D8F57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BDF45-F977-4C67-9988-95C1BBF2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25E88-D32F-4617-ACA8-CC606197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D242D-F29C-4BA4-A750-A432BE3C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6B0DA-9C18-4899-BB69-D46628D5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01D55-8468-40D0-A569-2BF395E1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7816E-FF7A-46C0-858C-D9F94718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8662-4CB3-482F-8CF6-8824016F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67E04-5BD0-4B8C-9933-570ACFC2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042EB-6FDF-4484-948E-C16E7853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633B7-A9CD-4227-95AC-0270BD60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18167-4F14-4CA2-8B77-5D7D4E76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9AD99-98DE-4E54-9F4B-313AB3C1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E6D59-4377-4C1C-8F19-AE07DB15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C2E8C-195A-48E3-9317-47CAFBCE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67F29-E084-4059-81EC-D83CBB24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04904-F7AD-4CD3-B69A-B5146096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22C34-4962-4EA5-9CC6-8E7A38A8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4EF8F-A45C-4650-A05E-35B6657E4A5C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08449-079A-403B-ACF2-42621E1EF6E7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C294F-9BAD-4552-9D83-FDD042F3EAE4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66273-5E34-4879-AE90-1543F49E994E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9DCA2-2BE6-453C-9CAD-9251C07B6DCF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FCA56-8753-420A-AE21-B0122F5E498A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F7D91-9BFD-4E64-A370-C0FADC03531A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3B515-690A-4D07-B993-2255A9D18216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0F4CF-FAA3-4FA3-AD6E-926E712B9CA2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C042D-76E4-49E6-BB12-69A16A2E864F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B00B7-7F48-4A48-99F2-2C0984CAB39E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1BC5F3-D5F8-4DFC-8FB4-0D364D4A48F7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E8C50-98FE-47F9-A845-A9C209D1F5AB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0AA0A-653A-4CA9-9A54-DC4724F56AC1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C79D6-08E1-42C4-A639-E8579948ABA9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0C3F6-1A05-4A63-B782-1D1376BDB50E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30502-CBD8-45F1-9C2C-4CB99860CE38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060200" y="407520"/>
            <a:ext cx="10443960" cy="14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альний вищий навчальний заклад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інницька академія неперервної освіти»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ія методики викладання біології і екології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неперервного професійного зростання вчителів біології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110960" y="2671920"/>
            <a:ext cx="104886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Біологія. 6 клас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Тема уроку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творення нових клітин. Ріст клітин.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Учасник школи, вчитель біології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ВК: СЗШ І – ІІІ ст. – гімназія м. Гайсин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ижко Леся Олександрівн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767960" y="515520"/>
            <a:ext cx="8853480" cy="9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5400" spc="-1" strike="noStrike">
                <a:solidFill>
                  <a:srgbClr val="262626"/>
                </a:solidFill>
                <a:latin typeface="Monotype Corsiva"/>
              </a:rPr>
              <a:t>         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447840" y="1346040"/>
            <a:ext cx="587664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ві клітини в організмах утворюються завдяки поділу особливих клітин, які в людини і тварин називаються </a:t>
            </a:r>
            <a:r>
              <a:rPr b="1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овбуровими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4" name="Picture 2" descr="C:\Users\pc\Desktop\53e5fba9e4b006956fa3e194.jpg"/>
          <p:cNvPicPr/>
          <p:nvPr/>
        </p:nvPicPr>
        <p:blipFill>
          <a:blip r:embed="rId1"/>
          <a:stretch/>
        </p:blipFill>
        <p:spPr>
          <a:xfrm>
            <a:off x="6431040" y="766800"/>
            <a:ext cx="51051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767960" y="515520"/>
            <a:ext cx="8853480" cy="9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5400" spc="-1" strike="noStrike">
                <a:solidFill>
                  <a:srgbClr val="262626"/>
                </a:solidFill>
                <a:latin typeface="Monotype Corsiva"/>
              </a:rPr>
              <a:t>Висновки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447840" y="1345680"/>
            <a:ext cx="1139328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іл клітин забезпечує неперервність передачі життя наступним поколінням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наслідок поділу дочірні клітини завдяки хромосомам отримують у спадок  програму росту та розвитку – молекули ДНК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наслідок поділу  цитоплазми дочірні клітини успадковують усі органели та структури, які необхідні для виконання програми, записаної  в молекулі ДНК.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076040" y="1893960"/>
            <a:ext cx="10210680" cy="22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600" spc="-1" strike="noStrike">
                <a:solidFill>
                  <a:srgbClr val="394329"/>
                </a:solidFill>
                <a:latin typeface="Monotype Corsiva"/>
              </a:rPr>
              <a:t>Утворення нових клітин.</a:t>
            </a:r>
            <a:br>
              <a:rPr sz="6600"/>
            </a:br>
            <a:r>
              <a:rPr b="1" lang="uk-UA" sz="6600" spc="-1" strike="noStrike">
                <a:solidFill>
                  <a:srgbClr val="394329"/>
                </a:solidFill>
                <a:latin typeface="Monotype Corsiva"/>
              </a:rPr>
              <a:t>Ріст клітин.</a:t>
            </a:r>
            <a:endParaRPr b="0" lang="en-US" sz="6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413160" y="790200"/>
            <a:ext cx="2139840" cy="9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5400" spc="-1" strike="noStrike">
                <a:solidFill>
                  <a:srgbClr val="394329"/>
                </a:solidFill>
                <a:latin typeface="Monotype Corsiva"/>
              </a:rPr>
              <a:t>План</a:t>
            </a:r>
            <a:br>
              <a:rPr sz="3200"/>
            </a:b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2338560" y="2169720"/>
            <a:ext cx="735480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орення нових клітин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іст клітин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3417840" y="347400"/>
            <a:ext cx="4819680" cy="18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5400" spc="-1" strike="noStrike">
                <a:solidFill>
                  <a:srgbClr val="394329"/>
                </a:solidFill>
                <a:latin typeface="Monotype Corsiva"/>
                <a:ea typeface="Times New Roman"/>
              </a:rPr>
              <a:t>Мозковий штурм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1006200" y="2346120"/>
            <a:ext cx="52578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Що станеться з клітиною, якщо з неї видалити ядро?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3" name="Picture 4" descr="C:\Users\pc\Desktop\i (1).jpg"/>
          <p:cNvPicPr/>
          <p:nvPr/>
        </p:nvPicPr>
        <p:blipFill>
          <a:blip r:embed="rId1"/>
          <a:stretch/>
        </p:blipFill>
        <p:spPr>
          <a:xfrm>
            <a:off x="6827760" y="1411200"/>
            <a:ext cx="518184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615680" y="182160"/>
            <a:ext cx="10301400" cy="12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5400" spc="-1" strike="noStrike">
                <a:solidFill>
                  <a:srgbClr val="394329"/>
                </a:solidFill>
                <a:latin typeface="Monotype Corsiva"/>
              </a:rPr>
              <a:t>               </a:t>
            </a:r>
            <a:r>
              <a:rPr b="0" lang="uk-UA" sz="5400" spc="-1" strike="noStrike">
                <a:solidFill>
                  <a:srgbClr val="394329"/>
                </a:solidFill>
                <a:latin typeface="Monotype Corsiva"/>
              </a:rPr>
              <a:t>Клітинний цикл</a:t>
            </a:r>
            <a:br>
              <a:rPr sz="5400"/>
            </a:b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1780920" y="1036800"/>
            <a:ext cx="891540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394329"/>
                </a:solidFill>
                <a:latin typeface="Times New Roman"/>
                <a:ea typeface="Times New Roman"/>
              </a:rPr>
              <a:t>розвиток клітини від її утворення  до завершення власного поділу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6" name="Схема 5" descr=""/>
          <p:cNvPicPr/>
          <p:nvPr/>
        </p:nvPicPr>
        <p:blipFill>
          <a:blip r:embed="rId1"/>
          <a:stretch/>
        </p:blipFill>
        <p:spPr>
          <a:xfrm>
            <a:off x="1944720" y="1657440"/>
            <a:ext cx="852156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260520" y="0"/>
            <a:ext cx="577692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4900" spc="-1" strike="noStrike">
                <a:solidFill>
                  <a:srgbClr val="394329"/>
                </a:solidFill>
                <a:latin typeface="Monotype Corsiva"/>
              </a:rPr>
              <a:t>Етапи поділу клітини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8" name="Рисунок 4" descr="http://narodna-osvita.com.ua/uploads/bio-6-ostap-ukr/bio-6-ostap-ukr-44.jpg"/>
          <p:cNvPicPr/>
          <p:nvPr/>
        </p:nvPicPr>
        <p:blipFill>
          <a:blip r:embed="rId1"/>
          <a:stretch/>
        </p:blipFill>
        <p:spPr>
          <a:xfrm>
            <a:off x="6827760" y="1173240"/>
            <a:ext cx="5059440" cy="5303880"/>
          </a:xfrm>
          <a:prstGeom prst="rect">
            <a:avLst/>
          </a:prstGeom>
          <a:ln w="0">
            <a:noFill/>
          </a:ln>
        </p:spPr>
      </p:pic>
      <p:sp>
        <p:nvSpPr>
          <p:cNvPr id="1189" name="Прямоугольник 4"/>
          <p:cNvSpPr/>
          <p:nvPr/>
        </p:nvSpPr>
        <p:spPr>
          <a:xfrm>
            <a:off x="212760" y="1122480"/>
            <a:ext cx="6919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літина готується до поділу, у ядрі видно складові хромосом у вигляді ниток (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чаток поділу: хромосоми (б) добре видно в мікроскоп, можна навіть порахувати їхню кількі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никає оболонка ядра, хромосоми (б) прямують до центра кліт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ромосоми (б) розташовуються в ряд по центру кліт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ловини кожної хромосоми (в) розходяться до протилежних кінців кліти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вколо кожної з груп хромосом формується ядерна оболонка, ділиться цитоплазма. Утворюються дочірні кліт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25320" y="1507680"/>
            <a:ext cx="55929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394329"/>
                </a:solidFill>
                <a:latin typeface="Times New Roman"/>
                <a:ea typeface="Times New Roman"/>
              </a:rPr>
              <a:t>    </a:t>
            </a:r>
            <a:r>
              <a:rPr b="0" lang="uk-UA" sz="3200" spc="-1" strike="noStrike">
                <a:solidFill>
                  <a:srgbClr val="394329"/>
                </a:solidFill>
                <a:latin typeface="Times New Roman"/>
                <a:ea typeface="Times New Roman"/>
              </a:rPr>
              <a:t>У ядрі молекула ДНК упакована за допомогою спеціальних білків і утворює структуру , яка називається </a:t>
            </a:r>
            <a:r>
              <a:rPr b="1" lang="uk-UA" sz="3200" spc="-1" strike="noStrike">
                <a:solidFill>
                  <a:srgbClr val="394329"/>
                </a:solidFill>
                <a:latin typeface="Times New Roman"/>
                <a:ea typeface="Times New Roman"/>
              </a:rPr>
              <a:t>хромосомою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1" name="Picture 5" descr="bolezn-fabri-chto-jeto_1"/>
          <p:cNvPicPr/>
          <p:nvPr/>
        </p:nvPicPr>
        <p:blipFill>
          <a:blip r:embed="rId1"/>
          <a:stretch/>
        </p:blipFill>
        <p:spPr>
          <a:xfrm>
            <a:off x="6116760" y="1695600"/>
            <a:ext cx="591156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25320" y="1630440"/>
            <a:ext cx="5516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4800" spc="-1" strike="noStrike">
                <a:solidFill>
                  <a:srgbClr val="262626"/>
                </a:solidFill>
                <a:latin typeface="Monotype Corsiva"/>
              </a:rPr>
              <a:t>     </a:t>
            </a:r>
            <a:r>
              <a:rPr b="0" lang="uk-UA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стадії росту молекули</a:t>
            </a:r>
            <a:br>
              <a:rPr sz="3200"/>
            </a:br>
            <a:r>
              <a:rPr b="0" lang="uk-UA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ДНК подвоюються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3" name="Picture 5" descr="_________________494d1b603b712"/>
          <p:cNvPicPr/>
          <p:nvPr/>
        </p:nvPicPr>
        <p:blipFill>
          <a:blip r:embed="rId1"/>
          <a:stretch/>
        </p:blipFill>
        <p:spPr>
          <a:xfrm>
            <a:off x="6534000" y="568440"/>
            <a:ext cx="5032440" cy="56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001680" y="515520"/>
            <a:ext cx="6721560" cy="9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5400" spc="-1" strike="noStrike">
                <a:solidFill>
                  <a:srgbClr val="262626"/>
                </a:solidFill>
                <a:latin typeface="Monotype Corsiva"/>
              </a:rPr>
              <a:t>      </a:t>
            </a:r>
            <a:r>
              <a:rPr b="0" lang="uk-UA" sz="5400" spc="-1" strike="noStrike">
                <a:solidFill>
                  <a:srgbClr val="262626"/>
                </a:solidFill>
                <a:latin typeface="Monotype Corsiva"/>
              </a:rPr>
              <a:t>Не здатні до поділу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447480" y="1849320"/>
            <a:ext cx="389556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ритроцити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літини кісток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літини мозку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літини м’язів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6" name="Picture 2" descr="C:\Users\pc\Desktop\kak-sdelat-tak-chtoby-poshla-krov_1.jpg"/>
          <p:cNvPicPr/>
          <p:nvPr/>
        </p:nvPicPr>
        <p:blipFill>
          <a:blip r:embed="rId1"/>
          <a:stretch/>
        </p:blipFill>
        <p:spPr>
          <a:xfrm>
            <a:off x="5380200" y="1616040"/>
            <a:ext cx="2925720" cy="237636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3" descr="C:\Users\pc\Desktop\i (3).jpg"/>
          <p:cNvPicPr/>
          <p:nvPr/>
        </p:nvPicPr>
        <p:blipFill>
          <a:blip r:embed="rId2"/>
          <a:stretch/>
        </p:blipFill>
        <p:spPr>
          <a:xfrm>
            <a:off x="8610480" y="4297320"/>
            <a:ext cx="2727360" cy="222588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4" descr="C:\Users\pc\Desktop\i (4).jpg"/>
          <p:cNvPicPr/>
          <p:nvPr/>
        </p:nvPicPr>
        <p:blipFill>
          <a:blip r:embed="rId3"/>
          <a:stretch/>
        </p:blipFill>
        <p:spPr>
          <a:xfrm>
            <a:off x="8580600" y="1612800"/>
            <a:ext cx="2773080" cy="234972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5" descr="C:\Users\pc\Desktop\i (5).jpg"/>
          <p:cNvPicPr/>
          <p:nvPr/>
        </p:nvPicPr>
        <p:blipFill>
          <a:blip r:embed="rId4"/>
          <a:stretch/>
        </p:blipFill>
        <p:spPr>
          <a:xfrm>
            <a:off x="5364000" y="4387680"/>
            <a:ext cx="2988000" cy="2073600"/>
          </a:xfrm>
          <a:prstGeom prst="rect">
            <a:avLst/>
          </a:prstGeom>
          <a:ln w="0">
            <a:noFill/>
          </a:ln>
        </p:spPr>
      </p:pic>
      <p:sp>
        <p:nvSpPr>
          <p:cNvPr id="1200" name="TextBox 7"/>
          <p:cNvSpPr/>
          <p:nvPr/>
        </p:nvSpPr>
        <p:spPr>
          <a:xfrm>
            <a:off x="5786280" y="4181400"/>
            <a:ext cx="2187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'язова тка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Box 8"/>
          <p:cNvSpPr/>
          <p:nvPr/>
        </p:nvSpPr>
        <p:spPr>
          <a:xfrm>
            <a:off x="5084640" y="6188040"/>
            <a:ext cx="3324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келетні        Гладенькі       Серцевий м'я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'яз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'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4T06:53:02Z</dcterms:created>
  <dc:creator>User</dc:creator>
  <dc:description/>
  <dc:language>en-US</dc:language>
  <cp:lastModifiedBy>Admin</cp:lastModifiedBy>
  <dcterms:modified xsi:type="dcterms:W3CDTF">2015-11-03T18:28:04Z</dcterms:modified>
  <cp:revision>83</cp:revision>
  <dc:subject/>
  <dc:title>Клітина – одиниця живого. Історія вивчення клітини</dc:title>
</cp:coreProperties>
</file>