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7B1054-4CCE-4E8B-A1C1-0DC68F26B0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7105F0-4355-46B9-BFB1-82E7784130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B9E8-2E67-4315-9A13-6BA115A19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8901-3F8B-4DB1-AE65-B90ABF8A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ADA07-A344-42F0-93CD-E5112FB9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813F7-8489-44DA-82CF-484C8ED4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7FC2F-96A1-46A8-B171-A60433F5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ADB96-A1FF-4FDF-9323-3CEF94D8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EDAFF-7CAE-4E34-8030-DBCEC7D6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3AF93-6646-441F-B2EA-F5145051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38128-E98D-4051-A1BD-973A7A08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E492F0-3CB9-40B5-B1AD-26CE5A4EA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F44837-D2EC-4A94-BAEC-44A9DF01C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90B50A-A52C-44DF-8A6B-DD8331838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4873-3D05-498B-B8C9-95906C890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2E9349-938B-4113-9354-F457A2C8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6CF600-D0E3-4A93-840A-DAAEADB9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84A10-5E7D-4CD1-8ED3-F333D94B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184FCD-9C03-4EA5-9F2E-4969D3D8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F0159-F07F-4092-B025-CB5476B2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2A6620-904D-41F6-B6B3-9DED6910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4A8647-ECD2-452A-B00B-1F181338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97A3E3-E6F2-4C5A-9E7E-BE02C5D0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0FD0E-84CC-44F5-AFCA-F8A03754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665750-AC69-4901-BABC-3A24CD0AE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D739-3C0D-4F58-8329-6ADD12DB1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B45A6-9A1F-4357-B9CB-F0491EA3E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9F125-9F19-4D92-A392-B67A6D446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DAFB3-3106-417A-A340-8435EEAB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6E454-E6F2-4753-A312-9ECD0CD9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3AA38-0E90-44A2-8021-8FB78FD0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8D970-15BC-47A3-8937-792CFEAD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D61A5-72B4-4E95-A986-7648C87C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9453C-21AD-491A-AB9F-2CE33716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0A36D-545F-4B92-899F-C4477F7F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57584-7424-4B1D-BF4B-9C966B5B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F695-6A48-4E1D-A10B-F805F107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B292A-5465-46F3-B418-D1D4B8D5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484D5-4E36-4F5D-962F-48C526F95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16269-70CA-491F-BE14-2E828B577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3EF802-195C-4A1D-8B0D-E22A90F02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0E2AA6-DB08-4449-852D-1DEE2781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1CF592-5D5C-4826-99CE-0A307E73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CB24EB-E7E0-4695-BFF5-5B9C60E0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5B3F1C-A5A3-430C-913F-1680418E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CC6551-EC9E-4580-9C81-0C188575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6CDE1-7FBE-4724-A5E3-FC3F84E3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6E94-1A2C-4477-A8C6-44526B2A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8E8B90-6D18-482A-8A23-4B46226A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241F41-EE81-4E56-B10C-08A39E6D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76C97E-E1C0-4F75-AA72-EA0E74D0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F54273-B7A0-4201-AB46-D48650939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E2EE1D-172F-497B-AEF8-FB674D9A9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BFD59C-9CE3-4CCC-8529-8C6F7118E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5997CE-DBDE-43E7-9E08-18421D83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96628F-1174-4F3A-AAE8-22A18374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869A27-DC55-4DD5-92CC-B8402A97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9F8C2B-6DDE-4801-820A-84EFA507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ED60-4DB5-41BB-B6DC-2ECFC364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7D944E-4028-4947-88A2-ED3388DF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1AF63D-6DBE-48ED-A1C0-B3AA51E5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070DC6-9A3E-42FB-BEC3-6F93DC5A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9ED7F0-8E78-4043-84E8-83E5EBFC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F78077-2423-479C-95DC-34380278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5CAC38-FC78-4BCB-8D71-04D3698C0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26C750-4DC0-4C8A-907A-D6049473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45C31B-9FA4-4AE0-AAC5-49FB70473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C46850-4034-483F-A1DC-9459A880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B24F86-C737-4AC5-A772-86286853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45D5-57AB-462C-BFE4-7D464992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8D7388-9349-47FB-A056-3ADF95ED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955E92-5D98-4FCF-A325-7B3117FE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3353E6-C905-4E88-9CF2-2BC4906C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3E1D4E-ABD0-4EA0-BCCB-CF83EC96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F2F16A-B796-4D42-92DA-3C036051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1D1297-5923-4D32-BA51-6D31B987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414FA5-97AC-4754-8881-1AD66779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3902E6-2E72-49AC-8421-C2D28C6D7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C9BB7A-1623-483F-AFDC-207F1482C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83B8B6-104E-47F1-A0A6-9C09A067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7E17-9AFC-488B-97BD-179EED92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20F050-60A6-41FE-B986-1B62C47C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2A8035-9007-422B-9E97-203C2540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8789C8-B99B-4B3E-8991-DFF67D1A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8E24E7-686B-4A79-B53F-0C838CCE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FB4137-C01A-489C-AB95-1018881A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50EF28-7145-400C-8414-CE615C01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004E01-EB06-4A66-8106-0B744D10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F07233-F68B-49BF-81CD-2E0ED41A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F784B4-3A08-432A-ADD4-2E603FC1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6CAF84-95EF-4F56-8C9B-2313A49AC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8E7F-AF3D-4A42-93E0-A7AE3548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C91B91-831C-4FA7-AD23-7DD25C332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5D3A80-8FCE-464A-8F02-5807CD0E6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FF7936-EAD5-44B9-8F43-EC6E3383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066513-42FE-40A2-806B-0D5E87FD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CE52EA-E355-45F9-A87D-AD68F256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D546EF-1317-415C-ACB4-845C61F7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C299DE-12B2-4F80-A6C3-8E750C9C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4C8744-1EAB-4105-AA5F-00B5C1A9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CCC7D1-2383-4811-A5AA-D076E983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2FABB7-50DF-49BF-8DFB-139B4192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A764-2C13-4A58-A6D8-30B1661E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47171D-F253-428A-8C18-3464FCAE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6F1EA8-4186-475F-8D92-1C30D779E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D44CF5-D919-4617-9A72-0624FC450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09CAA3-A0E2-4920-8EA4-05BCFACF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265467-8698-42A0-A7FF-E99225FF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26E428-17AF-4639-A24E-4A75C7AC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4AC7FB-858E-458A-AB6F-14C6A737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F90749-E93F-4C6F-AA81-4D1FFB63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6C68A5-1FBA-4608-A767-9C35598A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F803EA-AAD0-4ABE-94F7-E4297CA1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4602-DEB2-4E87-9E10-6AADBAE2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3E15-16BC-4FCC-9E0E-145A4C12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4CDC49-DB48-40AA-9D45-2D09C1D8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1E0E42-4EC5-4898-8A9E-6B343308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CB4444-223C-4547-B694-F33BD4D7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B944EC-09AC-4F50-9852-4E8DD2D7A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476D8D-FCAC-45F8-912D-7E5E2CCC6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A4B1-0AD2-48B3-AA95-E1C67DB4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E53F-BA8F-47B4-A942-2A8F568E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2E66-0DA8-44B6-8215-B85C07BA7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C20C-8E34-4AC7-AB17-A29F59837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28CFF-3978-4590-B124-694EBC97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E97E0-BE2E-4CC2-88F4-3FA7FF48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E6A59-91F8-402C-80B3-57B136F5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4E17E-C70F-45FF-AE61-11AC5705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E4149-E599-42F6-BE98-83EF9170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8517-4C94-49CE-AC5D-9433C31F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BF9C5-1DCC-455C-A43B-40D88C25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1CC20-0B64-44A5-8AE5-E34FD0F0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39A30-5CE9-412A-92FE-7E38ACB4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B1307-094C-409D-BA15-7E00AE0E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9AB62-78C5-47C1-80A4-AEA8E035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243D1-2B3A-46FB-984C-E79DC94A4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9BEBF-19C4-4431-9DAF-120A2CF99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2F235-0A3C-4075-9713-9B555727D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645AD-3617-44A7-B13F-8F8E9DE2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69985-725E-47AD-9688-3C25E2F1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040E-4CE2-42B1-A7F9-CEC501FB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1EC3F-6C64-4EF2-945E-3B7ECCB3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BBC79-150A-44E4-BAA8-AB998930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91383-4DA5-47D4-AF93-ADCB7E45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6D766-7499-4588-B3E2-64AF115F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F964C-8BE2-49CE-85B1-2183D398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14D79-93FA-46F2-9AFC-9BACEDBD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115F8-94E7-42DD-9A7B-4CE890A0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54B52-BC56-4268-B476-A0C6AAE63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13FE3-BD72-4845-86E6-9EC7DA660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4ED30-E751-4811-9536-07A5BED9F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402C-C627-4B2C-9DC4-89B4B27C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29A2B-C98D-4679-AABA-2A85BBC2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FC0A4-1A9A-4F5C-B0B7-64C4DF20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E6D36-A11B-4842-B0A6-6A3F4D61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E99F0-05DF-4E06-9B1D-F3D7FAE8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42441-BD4F-41D9-B982-C1809D2B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D2316-D128-4CE6-998E-D483B5BB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718E8-8534-4885-B6CB-183ACD97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ABCD2-94AD-4730-8A29-75AD169A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D6A56-152A-43D7-BF67-44AF5182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82F09-731E-44AE-8638-8A082B4FF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5880-39F4-4D92-80B9-8E310FFE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17AE6-CD4E-4DB8-9898-1F9CFAC38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8E4A6-E69E-4CCE-A183-0876B039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F48CB-77A6-4613-92FE-0D566632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A975E-CBB5-4021-9C63-FAAAEF1D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95F85-6F5D-429B-9F0F-46B2DE03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64F04-EE17-4E38-A9D8-C80592AB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3C723-AB89-4E8D-A44D-AF6CD358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BCCA2-7BB0-4B55-8B5C-CFC6CE29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B3310-502C-4A0A-B1F4-4B3BCD6F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0F9C6-5C95-4A9A-8A52-C3C652A1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EAD0-1E21-412E-B57F-AC0FBA08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BD356-6AD8-435C-A916-A77BA888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2EEFC-C0CB-464C-84B1-1BDA380F4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C70C3-EECD-4EE4-959B-DF6AEB9B9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AC535-8687-4377-89D5-634646573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9D600-A464-444E-B611-A49E0E9B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82D91-2959-46F0-95AF-5DDC2F2C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D2E49-29EB-4AAD-91A2-35C381DB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1D76A-7E69-47D3-9CD1-6BB313BB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681BA-8926-4189-BDD4-D6ACACAD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F3E3C-9283-49C8-AE4D-446A7DEF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A323-BFD3-4B58-96F3-01A580CC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266E4-242C-45C9-B15B-68867458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22D05-5F97-43B0-8D86-CAB1758D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1734E-F22D-40B3-904E-4046670B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A1D2B-D0B3-418E-9B51-547F643E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3A29F-6C8D-43EB-A59C-E18C6FD6F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D7918-275D-4FC2-A37B-5DA661F65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C5CB6-413C-4EA4-AC08-6403F316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C961A-3957-4A24-8609-0A94CC2A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1B67F-B77A-4376-8359-F84BE53A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AC20D-AC2B-4E15-8287-39F504C9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24E3-CC8A-4982-A4E9-6959BC0D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BF83D-F0AC-421F-92EA-C5C25D71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4367A-6646-44DB-B7BD-FC71B924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FF2CE-A49E-47FC-AE9C-CF88C7AF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2DCA1-5962-4BC8-8C7C-FA01D5C7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80A4D-ADF5-4039-9D60-9D4BEAA9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16D90-BDD9-4904-BBC2-F0383CA29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D2C11-7FC1-4E0F-87DD-7D2DCE56C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CDAB3-79CA-4F67-9786-8B715E58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85D08-E06C-44A7-AE35-32823D8C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3AEFD6-A7F0-4A4F-8E73-5784A978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6AE42B-F63C-49C5-9E93-E4A518AF4491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3E320C-25D8-4B82-8284-829690E9BD34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013B3B-8D4A-4A54-9882-FCC1CE9AA5AD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14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0EC88C-B8F1-4E4C-8B1B-368532658202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AC51BD-7304-4DB8-A217-461E2CA71084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1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1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825CBB-1BE0-43F9-BFC5-A89DF0F9F53C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CE2B04-D574-4BAC-A2EE-EEACD4E9CC7D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6DDBA1-BABC-4E98-81CA-0382ED720C74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102405-4610-4FE1-8571-51DA771DA909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>
              <a:gd name="textAreaLeft" fmla="*/ 0 w 1744560"/>
              <a:gd name="textAreaRight" fmla="*/ 1744920 w 17445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F163F5-4C0B-4174-A1AB-00A7608E6237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D76D35-F11F-43E5-BB88-C52212C99E9B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208AF8-3C02-4E14-91A0-2AD5640A651B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5236D4-BA08-4EA9-B4D5-59F6555E59A4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7DFD65-5FD3-4063-B9E7-47B9AAA1EA17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16BCF3-0FEC-4081-9505-82870DB76498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09C8BE-006C-4353-B002-D36041F8EE50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654589-2254-431A-A21F-EBA73C6E942B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060200" y="407520"/>
            <a:ext cx="10443960" cy="14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нальний вищий навчальний заклад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інницька академія неперервної освіти»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ія методики викладання біології і екології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 неперервного професійного зростання вчителів біології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1110960" y="2671920"/>
            <a:ext cx="10488600" cy="33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Gothic"/>
              </a:rPr>
              <a:t>Біологія. 6 клас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Gothic"/>
              </a:rPr>
              <a:t>Тема уроку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Надходження речовин у клітину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Учасник школи, вчитель біології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ВК: СЗШ І – ІІІ ст. – гімназія м. Гайсин</a:t>
            </a: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Гижко Леся Олександрівн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10972800" cy="9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5400" spc="-1" strike="noStrike">
                <a:solidFill>
                  <a:srgbClr val="262626"/>
                </a:solidFill>
                <a:latin typeface="Monotype Corsiva"/>
              </a:rPr>
              <a:t>    </a:t>
            </a:r>
            <a:r>
              <a:rPr b="0" lang="uk-UA" sz="4800" spc="-1" strike="noStrike">
                <a:solidFill>
                  <a:srgbClr val="262626"/>
                </a:solidFill>
                <a:latin typeface="Monotype Corsiva"/>
              </a:rPr>
              <a:t>Виділення непотрібних речовин з клітини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07" name="Picture 4" descr="09010203"/>
          <p:cNvPicPr/>
          <p:nvPr/>
        </p:nvPicPr>
        <p:blipFill>
          <a:blip r:embed="rId1"/>
          <a:stretch/>
        </p:blipFill>
        <p:spPr>
          <a:xfrm>
            <a:off x="1920960" y="1050840"/>
            <a:ext cx="921996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767960" y="515520"/>
            <a:ext cx="8853480" cy="9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5400" spc="-1" strike="noStrike">
                <a:solidFill>
                  <a:srgbClr val="262626"/>
                </a:solidFill>
                <a:latin typeface="Monotype Corsiva"/>
              </a:rPr>
              <a:t>                  </a:t>
            </a:r>
            <a:r>
              <a:rPr b="0" lang="uk-UA" sz="5400" spc="-1" strike="noStrike">
                <a:solidFill>
                  <a:srgbClr val="262626"/>
                </a:solidFill>
                <a:latin typeface="Monotype Corsiva"/>
              </a:rPr>
              <a:t>Висновок</a:t>
            </a:r>
            <a:endParaRPr b="0" lang="en-US" sz="5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447480" y="1345680"/>
            <a:ext cx="6242040" cy="514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середину клітини проникає вода та інші речовини,необхідні для життя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итоплазма , яка прилягає до оболонки клітини, має властивість напівпроникності. 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я властивість допомагає клітинам усмоктати потрібні речовини і не пропускати шкідливі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10" name="Picture 4" descr="28"/>
          <p:cNvPicPr/>
          <p:nvPr/>
        </p:nvPicPr>
        <p:blipFill>
          <a:blip r:embed="rId1"/>
          <a:stretch/>
        </p:blipFill>
        <p:spPr>
          <a:xfrm>
            <a:off x="6608880" y="1584360"/>
            <a:ext cx="558936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447920" y="3838680"/>
            <a:ext cx="10347120" cy="22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6000" spc="-1" strike="noStrike">
                <a:solidFill>
                  <a:srgbClr val="394329"/>
                </a:solidFill>
                <a:latin typeface="Monotype Corsiva"/>
              </a:rPr>
              <a:t>Надходження речовин у клітину.</a:t>
            </a:r>
            <a:endParaRPr b="0" lang="en-US" sz="6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86" name="Рисунок 3" descr=""/>
          <p:cNvPicPr/>
          <p:nvPr/>
        </p:nvPicPr>
        <p:blipFill>
          <a:blip r:embed="rId1"/>
          <a:stretch/>
        </p:blipFill>
        <p:spPr>
          <a:xfrm>
            <a:off x="8778960" y="60480"/>
            <a:ext cx="2998800" cy="3298680"/>
          </a:xfrm>
          <a:prstGeom prst="rect">
            <a:avLst/>
          </a:prstGeom>
          <a:ln w="0">
            <a:noFill/>
          </a:ln>
        </p:spPr>
      </p:pic>
      <p:pic>
        <p:nvPicPr>
          <p:cNvPr id="1187" name="Рисунок 4" descr=""/>
          <p:cNvPicPr/>
          <p:nvPr/>
        </p:nvPicPr>
        <p:blipFill>
          <a:blip r:embed="rId2"/>
          <a:stretch/>
        </p:blipFill>
        <p:spPr>
          <a:xfrm>
            <a:off x="560520" y="60480"/>
            <a:ext cx="2908080" cy="329868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4" descr="28"/>
          <p:cNvPicPr/>
          <p:nvPr/>
        </p:nvPicPr>
        <p:blipFill>
          <a:blip r:embed="rId3"/>
          <a:stretch/>
        </p:blipFill>
        <p:spPr>
          <a:xfrm>
            <a:off x="3828960" y="49320"/>
            <a:ext cx="460872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3398400" y="515520"/>
            <a:ext cx="2140200" cy="9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5400" spc="-1" strike="noStrike">
                <a:solidFill>
                  <a:srgbClr val="394329"/>
                </a:solidFill>
                <a:latin typeface="Monotype Corsiva"/>
              </a:rPr>
              <a:t>План</a:t>
            </a:r>
            <a:br>
              <a:rPr sz="3200"/>
            </a:br>
            <a:endParaRPr b="0" lang="en-US" sz="5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2262240" y="2306520"/>
            <a:ext cx="7354800" cy="32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Хімічний склад  клітин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дходження речовин у клітину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1401840"/>
            <a:ext cx="5554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5400" spc="-1" strike="noStrike">
                <a:solidFill>
                  <a:srgbClr val="394329"/>
                </a:solidFill>
                <a:latin typeface="Monotype Corsiva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394329"/>
                </a:solidFill>
                <a:latin typeface="Times New Roman"/>
                <a:ea typeface="Times New Roman"/>
              </a:rPr>
              <a:t>1</a:t>
            </a:r>
            <a:r>
              <a:rPr b="0" lang="uk-UA" sz="5400" spc="-1" strike="noStrike">
                <a:solidFill>
                  <a:srgbClr val="394329"/>
                </a:solidFill>
                <a:latin typeface="Monotype Corsiva"/>
                <a:ea typeface="Times New Roman"/>
              </a:rPr>
              <a:t>.</a:t>
            </a:r>
            <a:r>
              <a:rPr b="0" lang="uk-UA" sz="3200" spc="-1" strike="noStrike">
                <a:solidFill>
                  <a:srgbClr val="394329"/>
                </a:solidFill>
                <a:latin typeface="Times New Roman"/>
                <a:ea typeface="Times New Roman"/>
              </a:rPr>
              <a:t>Доведи, що клітина – це відкрита жива система.</a:t>
            </a:r>
            <a:br>
              <a:rPr sz="3200"/>
            </a:br>
            <a:br>
              <a:rPr sz="3200"/>
            </a:br>
            <a:r>
              <a:rPr b="0" lang="uk-UA" sz="3200" spc="-1" strike="noStrike">
                <a:solidFill>
                  <a:srgbClr val="394329"/>
                </a:solidFill>
                <a:latin typeface="Times New Roman"/>
                <a:ea typeface="Times New Roman"/>
              </a:rPr>
              <a:t>2.Чи мають клітини тварин і рослин спільні риси в хімічному складі?</a:t>
            </a:r>
            <a:br>
              <a:rPr sz="3200"/>
            </a:br>
            <a:br>
              <a:rPr sz="54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2" name="Picture 2" descr="http://nuczu.edu.ua/material/bio/img/b1.gif"/>
          <p:cNvPicPr/>
          <p:nvPr/>
        </p:nvPicPr>
        <p:blipFill>
          <a:blip r:embed="rId1"/>
          <a:srcRect l="0" t="0" r="0" b="18464"/>
          <a:stretch/>
        </p:blipFill>
        <p:spPr>
          <a:xfrm>
            <a:off x="6354720" y="244440"/>
            <a:ext cx="49831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600200" y="366840"/>
            <a:ext cx="999792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5400" spc="-1" strike="noStrike">
                <a:solidFill>
                  <a:srgbClr val="394329"/>
                </a:solidFill>
                <a:latin typeface="Monotype Corsiva"/>
              </a:rPr>
              <a:t>Хімічні речовини клітин</a:t>
            </a:r>
            <a:endParaRPr b="0" lang="en-US" sz="54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4" name="Схема 3" descr=""/>
          <p:cNvPicPr/>
          <p:nvPr/>
        </p:nvPicPr>
        <p:blipFill>
          <a:blip r:embed="rId1"/>
          <a:stretch/>
        </p:blipFill>
        <p:spPr>
          <a:xfrm>
            <a:off x="2017800" y="1822320"/>
            <a:ext cx="816912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036440" y="-360"/>
            <a:ext cx="11155320" cy="11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5400" spc="-1" strike="noStrike">
                <a:solidFill>
                  <a:srgbClr val="394329"/>
                </a:solidFill>
                <a:latin typeface="Monotype Corsiva"/>
              </a:rPr>
              <a:t> </a:t>
            </a:r>
            <a:r>
              <a:rPr b="0" lang="uk-UA" sz="4800" spc="-1" strike="noStrike">
                <a:solidFill>
                  <a:srgbClr val="394329"/>
                </a:solidFill>
                <a:latin typeface="Monotype Corsiva"/>
              </a:rPr>
              <a:t>Кожна жива клітина  дихає, живиться, росте.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5698800" y="1066680"/>
            <a:ext cx="61275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b372a"/>
                </a:solidFill>
                <a:latin typeface="Times New Roman"/>
                <a:ea typeface="Times New Roman"/>
              </a:rPr>
              <a:t>Речовини, потрібні для живлення і дихання клітини, надходять до неї з інших клітин та з міжклітинників, а вся рослина дістає їх з повітря і грунту. 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b372a"/>
                </a:solidFill>
                <a:latin typeface="Times New Roman"/>
                <a:ea typeface="Times New Roman"/>
              </a:rPr>
              <a:t>Крізь клітинну оболонку проходять у вигляді розчинів майже всі речовини, необхідні для життя клітини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7" name="Picture 3" descr="13"/>
          <p:cNvPicPr/>
          <p:nvPr/>
        </p:nvPicPr>
        <p:blipFill>
          <a:blip r:embed="rId1"/>
          <a:stretch/>
        </p:blipFill>
        <p:spPr>
          <a:xfrm>
            <a:off x="701640" y="1295280"/>
            <a:ext cx="454032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569600" y="182520"/>
            <a:ext cx="1025676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262626"/>
                </a:solidFill>
                <a:latin typeface="Monotype Corsiva"/>
              </a:rPr>
              <a:t>Клітинна мембрана регулює обмін різними речовинами між клітиною та середовищем.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447840" y="2107800"/>
            <a:ext cx="59227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ранспорт речовин в клітини забезпечується дифузією через мембрану. 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олекули переходять з області високої концентрації в область низької концентрації за допомогою осматичного тиску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0" name="Picture 2" descr="http://kvartir-remont.com.ua/images/osnovnie-prichini-vihoda-santehniki-iz-stroja-iz_8.gif"/>
          <p:cNvPicPr/>
          <p:nvPr/>
        </p:nvPicPr>
        <p:blipFill>
          <a:blip r:embed="rId1"/>
          <a:srcRect l="22395" t="16208" r="30335" b="27888"/>
          <a:stretch/>
        </p:blipFill>
        <p:spPr>
          <a:xfrm>
            <a:off x="7116840" y="4343400"/>
            <a:ext cx="4709880" cy="2225520"/>
          </a:xfrm>
          <a:prstGeom prst="rect">
            <a:avLst/>
          </a:prstGeom>
          <a:ln w="0">
            <a:noFill/>
          </a:ln>
        </p:spPr>
      </p:pic>
      <p:pic>
        <p:nvPicPr>
          <p:cNvPr id="1201" name="Picture 2" descr="https://encrypted-tbn3.gstatic.com/images?q=tbn:ANd9GcTIJ_CDgpGYAFmMifxS3m9pEnG8yf1jLEZjsPYOQgX3Kt4V-1W8fw"/>
          <p:cNvPicPr/>
          <p:nvPr/>
        </p:nvPicPr>
        <p:blipFill>
          <a:blip r:embed="rId2"/>
          <a:stretch/>
        </p:blipFill>
        <p:spPr>
          <a:xfrm>
            <a:off x="7102440" y="1846440"/>
            <a:ext cx="46623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3001680" y="515520"/>
            <a:ext cx="672156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uk-UA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03" name="Содержимое 7" descr="http://upload.wikimedia.org/wikipedia/commons/thumb/2/2f/Turgor_pressure_on_plant_cells_diagram-uk.svg/618px-Turgor_pressure_on_plant_cells_diagram-uk.svg.png"/>
          <p:cNvPicPr/>
          <p:nvPr/>
        </p:nvPicPr>
        <p:blipFill>
          <a:blip r:embed="rId1"/>
          <a:stretch/>
        </p:blipFill>
        <p:spPr>
          <a:xfrm>
            <a:off x="1660680" y="198360"/>
            <a:ext cx="103489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782720" y="302760"/>
            <a:ext cx="8855280" cy="9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5400" spc="-1" strike="noStrike">
                <a:solidFill>
                  <a:srgbClr val="262626"/>
                </a:solidFill>
                <a:latin typeface="Monotype Corsiva"/>
              </a:rPr>
              <a:t>       </a:t>
            </a:r>
            <a:r>
              <a:rPr b="0" lang="uk-UA" sz="5400" spc="-1" strike="noStrike">
                <a:solidFill>
                  <a:srgbClr val="262626"/>
                </a:solidFill>
                <a:latin typeface="Monotype Corsiva"/>
              </a:rPr>
              <a:t>Фагоцитоз       Піноцитоз</a:t>
            </a:r>
            <a:endParaRPr b="0" lang="en-US" sz="54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05" name="Picture 4" descr="09010202"/>
          <p:cNvPicPr/>
          <p:nvPr/>
        </p:nvPicPr>
        <p:blipFill>
          <a:blip r:embed="rId1"/>
          <a:srcRect l="0" t="8269" r="0" b="0"/>
          <a:stretch/>
        </p:blipFill>
        <p:spPr>
          <a:xfrm>
            <a:off x="1508040" y="1585800"/>
            <a:ext cx="996804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4T06:53:02Z</dcterms:created>
  <dc:creator>User</dc:creator>
  <dc:description/>
  <dc:language>en-US</dc:language>
  <cp:lastModifiedBy>Admin</cp:lastModifiedBy>
  <dcterms:modified xsi:type="dcterms:W3CDTF">2015-11-02T20:01:27Z</dcterms:modified>
  <cp:revision>80</cp:revision>
  <dc:subject/>
  <dc:title>Клітина – одиниця живого. Історія вивчення клітини</dc:title>
</cp:coreProperties>
</file>